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825-CA2B-420A-A7A8-022DA046B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 http://abacus.bates.edu/acad/depts/biobook/Melanism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http://okadadesign.blogspot.ca/2010/09/contrast-pattern-evolu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2AF-7A56-4780-BA7A-2BF437E4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352-57DA-413F-B4DB-D621D650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3A1-FB0B-4663-B791-11995929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CA2-ACBF-40E4-A339-16ED4AE9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AD8B-1E5F-47D3-A388-2F0EF519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3488-E5EB-49B9-8C5E-B97EF0BC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71A7-86BC-4373-B207-C80810CD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FEA3-5492-4259-9E7D-9E849482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E36F-2C91-4E15-8C82-98C4AD1E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B036-6F8A-4B17-B246-641DDEBF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FDE6-3894-4DDA-A9C5-76C19BB5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295-C8D7-47EE-9286-C46B5E6F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9395-1E55-4CFE-A25F-42047B7B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FE27-07D4-46A8-9DA0-DEC5197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D4D3-2E3C-4DC8-867D-2CD50CB1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D379-093E-41A9-9D29-EEED36B6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EEC1-FD5C-4173-88F2-0A033DF6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3AC-78E5-4167-BCA6-F31A784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5A6-489B-4A98-BE50-B4788C34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D8A-95AD-4D4F-AE3A-5C904494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41D-1AB3-4DC6-94CE-5A82DE63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DF6-FC26-4EDD-BA89-4221BFEE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73A-268F-4FF1-BA13-903BFD92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E85-539C-4789-953B-D5E63F47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540C-35E6-4175-B3A8-3F56CF35EE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8181-8316-4B60-BD28-298241FA87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dustrial Mel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example of evolution by natural se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ase of Industrial Mel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he Industrial Revolution, peppered moth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ston betul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ere predominantly white with black speck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end of the 1800s, they were predominantly charcoal g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 Melanis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t (1896) hypothesized that pollution-stained trees affected the camouflage potential of the mo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3519360"/>
            <a:ext cx="434340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27360" y="609480"/>
            <a:ext cx="368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73200" y="609480"/>
            <a:ext cx="599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 Melanis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nard Kettlewell decided to test the hypothesis in the 19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 Melanis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lewell released &amp; recaptured marked light and dark moths into polluted and non-polluted fo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4038480"/>
          <a:ext cx="54864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Recaptured from unpolluted are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Recaptured from polluted are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4.6% L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13.0% L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.7% D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7.5% D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 Melanis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bserved and filmed the moths in day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ound that birds appeared to prey selectively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ght moths in polluted fore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rk moths in non-polluted fo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ial Melanis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nti-pollution laws took effect and the bark lightened, the moth populations in formerly polluted areas returned to previous colour dis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bird predation may not be the only factor involved in the selection of one colour over the other, this is still a clear example of natural selection in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37:29Z</dcterms:created>
  <dc:creator>Student</dc:creator>
  <dc:description/>
  <dc:language>en-US</dc:language>
  <cp:lastModifiedBy>rubina khan</cp:lastModifiedBy>
  <dcterms:modified xsi:type="dcterms:W3CDTF">2014-11-19T17:34:27Z</dcterms:modified>
  <cp:revision>18</cp:revision>
  <dc:subject/>
  <dc:title>SBI4U</dc:title>
</cp:coreProperties>
</file>